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31E3E-B0F4-4271-9391-DC5FC1BC3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43812-D966-4D6E-812E-FFA2E6623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CF0D1-D844-4438-875F-ADA5D0975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54DB5-5682-4815-966C-96869EA94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D04E-A7F7-4285-9791-49E2835B3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65111-386C-46EC-9751-E6CC6A74E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CC744-1E53-4298-87AC-981D6F10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59167-E30F-431B-B2D4-F5C330B1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CEEB7-4FE5-4D38-BF19-56125AD26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2417-D602-49B8-9948-FC4AE9C9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F10E7-5D5A-483C-8558-E652FB67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8D78-AA54-44D5-B760-C9C8C784E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028B-2E3A-40ED-95C9-D5B38EDD5B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onatal Icte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r Parisa Mohaghegh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ofesso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U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longed phototherapy has been associated with increased oxidant stress and lipid peroxidation and riboflavin defici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ntinuing phototherapy</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ntinuing phototherapy as soon as it is safe reduces unnecessary exposure to phototherapy while minimizing the risk of rebound hyperbilirubinem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itioning, sleep posture, and medically-safe locations and environmen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justments for infant’s gestational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ge  Assessment for hemolysis and ensuing unpredictable respons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vailability of daily monitoring of patient and bilirubin level (either TcB or able to obtain TSB results in a timely mann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ppropriate supervision and a secure process for escalation of care if necessary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iteria for Home Phototherapy in Newborns </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38 weeks’ gestational ag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48 hours of ag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born is clinically well with appropriate weight loss (no more than 10% of birth weight) and output (number of voids and stools in 24 hours equivalent to age of newborn in day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known neurotoxicity risk facto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evious phototherap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serum bilirubin no more than 1 mg per dL  greater than the phototherapy threshold for age in hour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D-based phototherapy device is available to bring home the same da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check total serum bilirubin daily after starting phototherapy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phototherap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tion of phototherapy is clinically determined when a specific range of TSB threshold values based on a newborn infant’s gestational age (in weeks), postnatal age (in hours), and the presence or absence of risk factors associated with bilirubin neurotoxicity is reac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SB threshold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SB thresholds should provide a sufficient margin of safety and take into account interlaboratory variations in TSB measurements, the biologic vulnerability of an individual infant, the rapidity of an infant’s response to phototherapy, and the balance between risks of over- and undertreat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ectiveness of phototherap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ffectiveness of phototherapy depends on the efficacy of the device used and the net gradient between an infant’s rates of bilirubin production and elimination. Phototherapy needs to be delivered in measurable doses (irradiance), which makes it conceptually similar to pharmacotherap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phototherapy</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fficacy of phototherapy devices varies widely because of nonstandardized use of light sources and configurations and irradiance me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icacy of a devic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tors to consider in prescribing and implementing phototherapy using a particular device includ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1) the emission wavelength range of the light sourc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2) the light intensity (dose, irradiance) delivere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3) the percent exposed BSA of the infant (ventral, dorsal, or both) that can be illuminat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nd (4) commercially availabilit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fficacy is measured by the rate of reduction in TSB concentrations but may be impacted by variations in infant skin thickness and maturation and hematocri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uration of Light Exposure</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hototherapy can be administered continuously or intermittently (ie, cycl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he benefits of either strategy have not been demonstrated consistently in the literatur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view of potential adverse effects of excessive photon exposure, it is prudent to limit the total duration of light exposure or “irradiance dos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mall trials in term or near-term infants have reported that brief light exposure to 15 minutes per hour resulted in equivalent reduction of TSB concentrations as compared with continuous phototherap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ontinuing phototherap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n option to discontinue phototherapy when the TSB has declined by 2 to 4 mg/dL below the hour-specific threshold at the initiation of phototherap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ecision to discontinue phototherapy should be individualized to consider the TSB level at which phototherapy was initiated, the cause of the hyperbilirubinemia, the difference between the TSB level and the phototherapy threshold, and the risk of rebound hyperbilirubinemi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pp7</dc:creator>
  <dc:description/>
  <dc:language>en-US</dc:language>
  <cp:lastModifiedBy>app7</cp:lastModifiedBy>
  <dcterms:modified xsi:type="dcterms:W3CDTF">2025-06-07T03:50:17Z</dcterms:modified>
  <cp:revision>4</cp:revision>
  <dc:subject/>
  <dc:title>Neonatal Icter</dc:title>
</cp:coreProperties>
</file>