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151-320C-487D-B226-40210983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2ED-CCA2-4E15-99A5-193250E5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3DF-78A1-4267-9348-4D19D3BC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DCC-E4D9-4EBF-818D-2017CD53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1E4-AEFC-4394-A626-0254E2B6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658-839C-405B-BA40-B8F275A4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45D-38E7-4C25-BF6F-4F6A4158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B9E-BEF3-4580-890D-864ADEBD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D3A-96C2-4C87-8A1C-4AE2DA23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EF6-28D4-4C73-A946-6DC20F8F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794-CE96-42F3-99EB-10DB4AA8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962-8BB6-4C53-9C99-42F84393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6436-C531-4ECD-A39F-F9B7984D81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Content Placeholder 2"/>
          <p:cNvSpPr/>
          <p:nvPr/>
        </p:nvSpPr>
        <p:spPr>
          <a:xfrm>
            <a:off x="228600" y="0"/>
            <a:ext cx="8381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ff00"/>
                </a:solidFill>
                <a:latin typeface="Calibri"/>
                <a:cs typeface="Arial"/>
              </a:rPr>
              <a:t>بنام خداوند جان و خ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ff00"/>
                </a:solidFill>
                <a:latin typeface="Calibri"/>
                <a:cs typeface="Arial"/>
              </a:rPr>
              <a:t>کزین برتر اندیشه بر نگذر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1671967_335.jpg"/>
          <p:cNvPicPr/>
          <p:nvPr/>
        </p:nvPicPr>
        <p:blipFill>
          <a:blip r:embed="rId2"/>
          <a:stretch/>
        </p:blipFill>
        <p:spPr>
          <a:xfrm>
            <a:off x="4524480" y="3400560"/>
            <a:ext cx="95040" cy="56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1671967_335.jpg"/>
          <p:cNvPicPr/>
          <p:nvPr/>
        </p:nvPicPr>
        <p:blipFill>
          <a:blip r:embed="rId3"/>
          <a:stretch/>
        </p:blipFill>
        <p:spPr>
          <a:xfrm>
            <a:off x="0" y="1417680"/>
            <a:ext cx="9144000" cy="544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388c"/>
                </a:solidFill>
                <a:latin typeface="Calibri"/>
                <a:cs typeface="Times New Roman"/>
              </a:rPr>
              <a:t>اسپری های تنفس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فلوتیکازون: 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&gt;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y/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مومتازون:  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&gt;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y/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بودزوناید:    </a:t>
            </a:r>
            <a:r>
              <a:rPr b="0" lang="fa-IR" sz="3200" spc="-1" strike="noStrike">
                <a:solidFill>
                  <a:srgbClr val="92d050"/>
                </a:solidFill>
                <a:latin typeface="Calibri"/>
                <a:cs typeface="Arial"/>
              </a:rPr>
              <a:t>از دوران نوزاد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388c"/>
                </a:solidFill>
                <a:latin typeface="Calibri"/>
                <a:cs typeface="Times New Roman"/>
              </a:rPr>
              <a:t>داروهای ضد سرف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عموما زیر دو سالگی ممنوعیت مصرف دارن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باعث سرکوب تنفس طبیعی و مکانیسم سرفه می شون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ممکن است باعث تشدید حمله آسم شون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5" descr="imagesEPU42JKS.jpg"/>
          <p:cNvPicPr/>
          <p:nvPr/>
        </p:nvPicPr>
        <p:blipFill>
          <a:blip r:embed="rId1"/>
          <a:stretch/>
        </p:blipFill>
        <p:spPr>
          <a:xfrm>
            <a:off x="152280" y="152280"/>
            <a:ext cx="8869320" cy="6477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ff388c"/>
                </a:solidFill>
                <a:uFillTx/>
                <a:latin typeface="Calibri"/>
                <a:cs typeface="Times New Roman"/>
              </a:rPr>
              <a:t>چالش های مصرف  داروهای غیر مجاز در نوزادان وشیرخوار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2d050"/>
                </a:solidFill>
                <a:latin typeface="Calibri"/>
                <a:cs typeface="Arial"/>
              </a:rPr>
              <a:t>دکتر فرهاد چوبدا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فوق تخصص نوزاد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دانشیار دانشگاه علوم پزشکی ایر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388c"/>
                </a:solidFill>
                <a:latin typeface="Calibri"/>
                <a:cs typeface="Times New Roman"/>
              </a:rPr>
              <a:t>چالش ه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حساسیت نوزادان به داروها به دلیل نارس بودن عملکرد کبد و کلی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تفاوت های فارماکوکینتیکی با کودکان و بالغی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احتمال بالای مسمومیت های دارویی و عوارض درازمد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388c"/>
                </a:solidFill>
                <a:latin typeface="Calibri"/>
                <a:cs typeface="Times New Roman"/>
              </a:rPr>
              <a:t>شایعترین داروهای مورد مصرف در نوزادا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آنتی هیستامین 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پروبیوتیک 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مکمل 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پمادها و داروهای موضع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قطره های چشم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اسپری های تنفس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شربت های سرف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388c"/>
                </a:solidFill>
                <a:latin typeface="Calibri"/>
                <a:cs typeface="Times New Roman"/>
              </a:rPr>
              <a:t>آنتی هیستامین ه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نسل او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b0f0"/>
                </a:solidFill>
                <a:latin typeface="Calibri"/>
                <a:ea typeface="Arial"/>
              </a:rPr>
              <a:t>        دیفن هیدرامی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b0f0"/>
                </a:solidFill>
                <a:latin typeface="Calibri"/>
                <a:ea typeface="Arial"/>
              </a:rPr>
              <a:t>        کلرفنیرامی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نسل دو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30f0de"/>
                </a:solidFill>
                <a:latin typeface="Calibri"/>
                <a:ea typeface="Arial"/>
              </a:rPr>
              <a:t>        ستریزی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30f0de"/>
                </a:solidFill>
                <a:latin typeface="Calibri"/>
                <a:ea typeface="Arial"/>
              </a:rPr>
              <a:t>        کتوتیف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30f0de"/>
                </a:solidFill>
                <a:latin typeface="Calibri"/>
                <a:ea typeface="Arial"/>
              </a:rPr>
              <a:t>        فکسوفنادی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30f0de"/>
                </a:solidFill>
                <a:latin typeface="Calibri"/>
                <a:ea typeface="Arial"/>
              </a:rPr>
              <a:t>        دس لوراتادی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ea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388c"/>
                </a:solidFill>
                <a:latin typeface="Calibri"/>
                <a:cs typeface="Times New Roman"/>
              </a:rPr>
              <a:t>عوارض آنتی هیستامین های نسل او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pn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eiz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I or Urinary Re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row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388c"/>
                </a:solidFill>
                <a:latin typeface="Calibri"/>
                <a:cs typeface="Times New Roman"/>
              </a:rPr>
              <a:t>عوارض آنتی هیستامین های نسل دو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ممنوعیت مصرف در زیر </a:t>
            </a:r>
            <a:r>
              <a:rPr b="0" lang="fa-IR" sz="3200" spc="-1" strike="noStrike">
                <a:solidFill>
                  <a:srgbClr val="ffff00"/>
                </a:solidFill>
                <a:latin typeface="Calibri"/>
                <a:ea typeface="Arial"/>
              </a:rPr>
              <a:t>6</a:t>
            </a:r>
            <a:r>
              <a:rPr b="0" lang="fa-IR" sz="3200" spc="-1" strike="noStrike">
                <a:solidFill>
                  <a:srgbClr val="ffff00"/>
                </a:solidFill>
                <a:latin typeface="Calibri"/>
                <a:ea typeface="Arial"/>
              </a:rPr>
              <a:t> ماهگ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برای درمان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RI</a:t>
            </a:r>
            <a:r>
              <a:rPr b="0" lang="fa-IR" sz="3200" spc="-1" strike="noStrike">
                <a:solidFill>
                  <a:srgbClr val="ffff00"/>
                </a:solidFill>
                <a:latin typeface="Calibri"/>
                <a:ea typeface="Arial"/>
              </a:rPr>
              <a:t> در کودکان توصیه نمی شون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میتوانند در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RI</a:t>
            </a:r>
            <a:r>
              <a:rPr b="0" lang="fa-IR" sz="3200" spc="-1" strike="noStrike">
                <a:solidFill>
                  <a:srgbClr val="ffff00"/>
                </a:solidFill>
                <a:latin typeface="Calibri"/>
                <a:ea typeface="Arial"/>
              </a:rPr>
              <a:t>  باعث افزایش مورتالیتی شون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388c"/>
                </a:solidFill>
                <a:latin typeface="Calibri"/>
                <a:cs typeface="Times New Roman"/>
              </a:rPr>
              <a:t>پروبیوتیک ه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احتمال ایجاد سپتی سمی در موارد ایمنی ضعی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احتمال آلودگی محصولات با میکروب و قار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عدم در دسترس بودن دوز دقیق و مناس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388c"/>
                </a:solidFill>
                <a:latin typeface="Calibri"/>
                <a:cs typeface="Times New Roman"/>
              </a:rPr>
              <a:t>پمادها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پمادهای بر پایه پترولیوم و سنتتیک زیر یک ماهگی توصیه نمی شو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پماد های کورتونی خطر جذب سیستمیک دارن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00"/>
                </a:solidFill>
                <a:latin typeface="Calibri"/>
                <a:cs typeface="Arial"/>
              </a:rPr>
              <a:t>پماد های آنتی بیوتیکی خطر افزایش حساسیت ومساعد کردن محیط به قارچ را دارن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48:47Z</dcterms:created>
  <dc:creator>Laptop</dc:creator>
  <dc:description/>
  <dc:language>en-US</dc:language>
  <cp:lastModifiedBy>Ghazal</cp:lastModifiedBy>
  <dcterms:modified xsi:type="dcterms:W3CDTF">2025-06-12T05:18:21Z</dcterms:modified>
  <cp:revision>751</cp:revision>
  <dc:subject/>
  <dc:title>بسم اله الرحمن الرحیم</dc:title>
</cp:coreProperties>
</file>